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0636D-1F9F-4674-9EA0-007859BD1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49806-D7AE-48DD-BB94-49DF5FD49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605F3-4D3C-4264-8CAF-88C20B683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1C275-CF98-4620-A619-D6E5C7255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F0A5A-AECF-4A58-BAE4-D7467170E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AFF05-1248-4306-8232-CAFAA7FA5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10AF8-07E1-4A06-A271-80030238D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BCAC5-AE3D-45C9-A858-5B359835B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7DD20-17A0-4880-9597-694D0C48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7AB8-6E1D-4E03-A584-DBBD62FC2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FF97B-7CAC-4D76-A6E7-79EF2A8A8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94DCC-1BA0-4624-926D-980718C82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8CE5-7B5F-4DBB-B0FF-D795783035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3886200"/>
            <a:ext cx="8153280" cy="1752480"/>
          </a:xfrm>
          <a:prstGeom prst="rect">
            <a:avLst/>
          </a:prstGeom>
          <a:noFill/>
          <a:ln w="0">
            <a:noFill/>
          </a:ln>
        </p:spPr>
        <p: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4" name=""/>
          <p:cNvSpPr txBox="1"/>
          <p:nvPr/>
        </p:nvSpPr>
        <p:spPr>
          <a:xfrm>
            <a:off x="2814480" y="3116160"/>
            <a:ext cx="3515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esiunea iunie-iul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914040" y="1371240"/>
            <a:ext cx="4267080" cy="4419720"/>
          </a:xfrm>
          <a:prstGeom prst="rect">
            <a:avLst/>
          </a:prstGeom>
          <a:noFill/>
          <a:ln w="0">
            <a:noFill/>
          </a:ln>
          <a:effectLst>
            <a:outerShdw dist="107932" dir="13500000" blurRad="0" rotWithShape="0">
              <a:srgbClr val="808080">
                <a:alpha val="50000"/>
              </a:srgbClr>
            </a:outerShdw>
          </a:effectLst>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6"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s13a3</cp:lastModifiedBy>
  <dcterms:modified xsi:type="dcterms:W3CDTF">2012-06-18T11:02:5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